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7CF82A6-BAD0-4D22-8331-0A13F46B5D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56D463-A768-4ED8-B22A-06FF124F6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9113462-2F65-4604-AD23-3A75072C42E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E6B96C6-B708-44FA-9213-399304DD0D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BD9E2CF-745D-48E3-A388-57E705D948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677B62C-4B7E-4378-92A3-1F540B9569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7F606EB-909D-420C-8F96-2E6D81DAEE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139B95E-C4BC-4993-BEF7-55C9EE76FB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80B04EA-5F6F-4C74-BB88-B721174320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A4EB10C-1E57-4FE7-9497-30B48290A34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52BE5CA-6095-4560-9278-1CDF0F03E8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0F2B7E8-A3F9-4128-A769-B4C5A6D667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6AD3F49-5C4F-45FE-95E5-01D91852E41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50A9BEB-DC5F-42B4-AE28-EE81FF80D7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CB38981-5965-4584-B74A-6A7ECBC29B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6D7D556-884F-4681-84C3-947DAFE3776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C62C3C9-3755-46B7-9E55-AF6C7AC963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571E1D6-618B-423D-ABC4-74A8B7AB70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4FA33B2-15A0-400D-8EE0-EB2DF084505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7358CE0-FC3A-4E88-94CD-C601A454DF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BE22DEE-DDF3-479A-864D-C525ECAC72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A6F0EE7-A0B0-4E08-B2C3-8BB96B80F0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7E5F-CBDC-458B-8B63-24D71D19802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2612-D39C-4560-8735-8AA228FA0C3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B08C-C1FE-42EB-8CA4-9825C5778F5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2B74-C17C-4BD9-93F9-FACA75B0A79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DC4E-E58E-4EF6-A84F-7205B614C43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4391-20CA-428E-BB5A-4265B8030F7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CFC9-1635-49ED-B5A6-56469436677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2BF3-7211-4F45-8585-95B3C9FA64D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2D95-EBDF-4510-9B1B-B4B91A7B0E9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28AE-509F-4AC6-A7D2-EAB9879B568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4687-9CAE-4114-B7AB-1750BA3E013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49DA-8C48-46BA-A0EA-705E3C9CEF2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E6D6-FEF7-4D6D-9135-0A1CD7EC2CE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A169-69AA-4116-9610-36635C504A7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552C-D908-4A71-98AD-CFFBD55F7E6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467A-CC93-4BFB-9F68-811AEE8E2EA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I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Using PSP2 - </a:t>
            </a:r>
            <a:fld id="{83434F44-C175-42C1-B32E-F9AD746E4E1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25360" y="1766520"/>
            <a:ext cx="801864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000000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I</a:t>
            </a:r>
            <a:br>
              <a:rPr sz="4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Tutorial: Using PSP2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With Review Rat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chmark data on code review rates can be used to estimate review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PSP data, we know that code review rates under 200 LOC/hour generally give high yie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lanned added and modified LOC, code review time can be calculated using this formu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4"/>
              <p:cNvSpPr txBox="1"/>
              <p:nvPr/>
            </p:nvSpPr>
            <p:spPr>
              <a:xfrm>
                <a:off x="981000" y="4665600"/>
                <a:ext cx="76359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de review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lanned Added and Modified LO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Rectangle 5"/>
          <p:cNvSpPr/>
          <p:nvPr/>
        </p:nvSpPr>
        <p:spPr>
          <a:xfrm>
            <a:off x="879480" y="5578560"/>
            <a:ext cx="79185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 similar rate for design 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With Review Rat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dd review time to your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the total minutes, and/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compile and tes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 final check of your estimate, make sure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rates are less than 200 LOC per 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removal rates are betw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to 5 per hour for design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to 10 per hour for code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/FR is about 2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Consid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ly no historical data are available for planning defects injected and removed in review phas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til you have data for design and code review phases, you may want to consi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injected are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removed should be based on your yield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yield goal should be based on your interim report analysis.  If you do not have a yield goal, you should try to achieve greater than 60% yie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Defects Remov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88560" y="1595520"/>
            <a:ext cx="7456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removed in a review phase are calculated u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of defects escaping from prior ph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of defects injected in a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centage of defects removed, i.e. Phase Y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481040" y="3787920"/>
          <a:ext cx="5416560" cy="841320"/>
        </p:xfrm>
        <a:graphic>
          <a:graphicData uri="http://schemas.openxmlformats.org/drawingml/2006/table">
            <a:tbl>
              <a:tblPr/>
              <a:tblGrid>
                <a:gridCol w="2387520"/>
                <a:gridCol w="535320"/>
                <a:gridCol w="2493720"/>
              </a:tblGrid>
              <a:tr h="42048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cts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pes + inje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cts remo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hase y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2 Project Plan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988560" y="1595160"/>
            <a:ext cx="36306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your estimates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7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i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7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injected i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72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removed i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se values on the PSP2 project plan summ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6" descr=""/>
          <p:cNvPicPr/>
          <p:nvPr/>
        </p:nvPicPr>
        <p:blipFill>
          <a:blip r:embed="rId1"/>
          <a:srcRect l="2695" t="14643" r="4128" b="4455"/>
          <a:stretch/>
        </p:blipFill>
        <p:spPr>
          <a:xfrm>
            <a:off x="4746600" y="1606680"/>
            <a:ext cx="3641760" cy="3930480"/>
          </a:xfrm>
          <a:prstGeom prst="rect">
            <a:avLst/>
          </a:prstGeom>
          <a:ln w="0">
            <a:noFill/>
          </a:ln>
        </p:spPr>
      </p:pic>
      <p:sp>
        <p:nvSpPr>
          <p:cNvPr id="471" name="Oval 7"/>
          <p:cNvSpPr/>
          <p:nvPr/>
        </p:nvSpPr>
        <p:spPr>
          <a:xfrm>
            <a:off x="5345280" y="2367000"/>
            <a:ext cx="188640" cy="182520"/>
          </a:xfrm>
          <a:prstGeom prst="ellipse">
            <a:avLst/>
          </a:prstGeom>
          <a:solidFill>
            <a:srgbClr val="005695"/>
          </a:solidFill>
          <a:ln w="9360">
            <a:solidFill>
              <a:srgbClr val="005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"/>
          <p:cNvSpPr/>
          <p:nvPr/>
        </p:nvSpPr>
        <p:spPr>
          <a:xfrm>
            <a:off x="5343480" y="3576600"/>
            <a:ext cx="189000" cy="182520"/>
          </a:xfrm>
          <a:prstGeom prst="ellipse">
            <a:avLst/>
          </a:prstGeom>
          <a:solidFill>
            <a:srgbClr val="005695"/>
          </a:solidFill>
          <a:ln w="9360">
            <a:solidFill>
              <a:srgbClr val="005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9"/>
          <p:cNvSpPr/>
          <p:nvPr/>
        </p:nvSpPr>
        <p:spPr>
          <a:xfrm>
            <a:off x="5343480" y="4778280"/>
            <a:ext cx="189000" cy="182520"/>
          </a:xfrm>
          <a:prstGeom prst="ellipse">
            <a:avLst/>
          </a:prstGeom>
          <a:solidFill>
            <a:srgbClr val="005695"/>
          </a:solidFill>
          <a:ln w="9360">
            <a:solidFill>
              <a:srgbClr val="005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ed Quality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 also provides the following derived quality mea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remov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removal le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defects per K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defects per K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Removal Effici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988920" y="1595160"/>
            <a:ext cx="7413840" cy="18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88440" indent="-388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ct removal efficiency is calculated automatically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the number of defects removed per hour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388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388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388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388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11"/>
              <p:cNvSpPr txBox="1"/>
              <p:nvPr/>
            </p:nvSpPr>
            <p:spPr>
              <a:xfrm>
                <a:off x="1484280" y="5850000"/>
                <a:ext cx="58039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ect removal efficienc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fects removed in pha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 in phas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inute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79" name="Picture 21" descr="s21"/>
          <p:cNvPicPr/>
          <p:nvPr/>
        </p:nvPicPr>
        <p:blipFill>
          <a:blip r:embed="rId1"/>
          <a:stretch/>
        </p:blipFill>
        <p:spPr>
          <a:xfrm>
            <a:off x="1770120" y="3614760"/>
            <a:ext cx="5175360" cy="20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77760" y="94752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Removal Lever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64720" y="1595520"/>
            <a:ext cx="7410600" cy="16113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9000"/>
          </a:bodyPr>
          <a:p>
            <a:pPr marL="37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ct removal leverage is calculated automatically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s removal efficiency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Review vs. Unit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Review vs. Unit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vs. Unit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9"/>
              <p:cNvSpPr txBox="1"/>
              <p:nvPr/>
            </p:nvSpPr>
            <p:spPr>
              <a:xfrm>
                <a:off x="1614600" y="5533920"/>
                <a:ext cx="59594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ect removal leverage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fects removed per hour for a review or compile phas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efects removed per hour for unit tes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83" name="Picture 15" descr="s14"/>
          <p:cNvPicPr/>
          <p:nvPr/>
        </p:nvPicPr>
        <p:blipFill>
          <a:blip r:embed="rId1"/>
          <a:stretch/>
        </p:blipFill>
        <p:spPr>
          <a:xfrm>
            <a:off x="1968480" y="3338640"/>
            <a:ext cx="5175360" cy="20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Defects Per KLO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988920" y="1595520"/>
            <a:ext cx="74138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defects per KLOC is calculated automatically and is an indicator of the quality of the program that you put into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7"/>
              <p:cNvSpPr txBox="1"/>
              <p:nvPr/>
            </p:nvSpPr>
            <p:spPr>
              <a:xfrm>
                <a:off x="1476360" y="5645160"/>
                <a:ext cx="6024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est defects/KLO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fects removed in tes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Added and Modifi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87" name="Picture 13" descr="s15"/>
          <p:cNvPicPr/>
          <p:nvPr/>
        </p:nvPicPr>
        <p:blipFill>
          <a:blip r:embed="rId1"/>
          <a:stretch/>
        </p:blipFill>
        <p:spPr>
          <a:xfrm>
            <a:off x="2027160" y="2936880"/>
            <a:ext cx="4967280" cy="24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fects Per KLO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988920" y="1595520"/>
            <a:ext cx="74138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defects per KLOC is calculated automatically and is a measure of the total defects injected during the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8"/>
              <p:cNvSpPr txBox="1"/>
              <p:nvPr/>
            </p:nvSpPr>
            <p:spPr>
              <a:xfrm>
                <a:off x="1562040" y="5645160"/>
                <a:ext cx="60786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tal defects/KLO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 defects remov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Added and Modifi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91" name="Picture 13" descr="s16"/>
          <p:cNvPicPr/>
          <p:nvPr/>
        </p:nvPicPr>
        <p:blipFill>
          <a:blip r:embed="rId1"/>
          <a:stretch/>
        </p:blipFill>
        <p:spPr>
          <a:xfrm>
            <a:off x="1995480" y="3044880"/>
            <a:ext cx="49672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torial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this tutorial, you 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new PSP2 process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how to use the PSP2 scripts and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epared to use PSP2 for program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ie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988560" y="1595160"/>
            <a:ext cx="744084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ield (actual and to-date) is calculated automatically for the entire process and is the percentage of defects injected and removed before the first comp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8"/>
              <p:cNvSpPr txBox="1"/>
              <p:nvPr/>
            </p:nvSpPr>
            <p:spPr>
              <a:xfrm>
                <a:off x="1773360" y="5761080"/>
                <a:ext cx="5392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veral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fects removed before compil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fects injected before compil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95" name="Picture 17" descr="s17"/>
          <p:cNvPicPr/>
          <p:nvPr/>
        </p:nvPicPr>
        <p:blipFill>
          <a:blip r:embed="rId1"/>
          <a:stretch/>
        </p:blipFill>
        <p:spPr>
          <a:xfrm>
            <a:off x="2057400" y="3289320"/>
            <a:ext cx="49672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see more improvement from design and code reviews than any other process change you mak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will impro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ivity will incre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 provides data that allows you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 for specific quality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quality during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quality of your P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productivity without sacrificing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2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s of PSP2 are to introdu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and code re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s for evaluating and improving the quality of your re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Process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88920" y="1595520"/>
            <a:ext cx="74138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two new process el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review check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review check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and code review checklists are described separat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 adds two key capabilities to the P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and code re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2 project plan summary supports these two new capabil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Code Re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88920" y="1595160"/>
            <a:ext cx="74138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hases have been added to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reviews (DL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reviews (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979560" y="2838600"/>
            <a:ext cx="393696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and defect data from these phases are summarized on the PSP2 Project Plan Summ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4" descr="s5a"/>
          <p:cNvPicPr/>
          <p:nvPr/>
        </p:nvPicPr>
        <p:blipFill>
          <a:blip r:embed="rId1"/>
          <a:stretch/>
        </p:blipFill>
        <p:spPr>
          <a:xfrm>
            <a:off x="662040" y="3924360"/>
            <a:ext cx="4336920" cy="24670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5" descr="s5b"/>
          <p:cNvPicPr/>
          <p:nvPr/>
        </p:nvPicPr>
        <p:blipFill>
          <a:blip r:embed="rId2"/>
          <a:stretch/>
        </p:blipFill>
        <p:spPr>
          <a:xfrm>
            <a:off x="5186520" y="2538360"/>
            <a:ext cx="3504960" cy="38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Plan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 introduces quality plan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planning invo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the total number of defects that will be inj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the number of defects that will be injected and removed in each process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the amount of time needed for design and code re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justing these parameters as needed to ensure a high quality res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Total Def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296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estimate the total defects injected and removed, use the estimated program size and to-date defect density to calculate the estimated total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030320" y="3817800"/>
          <a:ext cx="7674120" cy="723960"/>
        </p:xfrm>
        <a:graphic>
          <a:graphicData uri="http://schemas.openxmlformats.org/drawingml/2006/table">
            <a:tbl>
              <a:tblPr/>
              <a:tblGrid>
                <a:gridCol w="2784600"/>
                <a:gridCol w="4889520"/>
              </a:tblGrid>
              <a:tr h="362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 total defects =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-date total defects/KLOC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 Added and Modified LOC /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Defects by Ph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estimate defects injected and removed by phase, distribute the planned total defects injected and removed based on historical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ned Total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o Date %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injected in each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o Date %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removed in each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Review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988920" y="1595160"/>
            <a:ext cx="741384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PSP benchmarks can be used to estimate design review and code review time in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83" descr="s7"/>
          <p:cNvPicPr/>
          <p:nvPr/>
        </p:nvPicPr>
        <p:blipFill>
          <a:blip r:embed="rId1"/>
          <a:stretch/>
        </p:blipFill>
        <p:spPr>
          <a:xfrm>
            <a:off x="985680" y="2708280"/>
            <a:ext cx="7446960" cy="207324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84"/>
          <p:cNvSpPr/>
          <p:nvPr/>
        </p:nvSpPr>
        <p:spPr>
          <a:xfrm>
            <a:off x="998640" y="5203800"/>
            <a:ext cx="752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ual calculations, starting with the code review rate is recomme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31Z</dcterms:modified>
  <cp:revision>191</cp:revision>
  <dc:subject/>
  <dc:title>No Slide Title</dc:title>
</cp:coreProperties>
</file>